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ct" ContentType="image/x-pict"/>
  <Override PartName="/ppt/media/image6.png" ContentType="image/png"/>
  <Override PartName="/ppt/media/image11.png" ContentType="image/png"/>
  <Override PartName="/ppt/media/image4.png" ContentType="image/png"/>
  <Override PartName="/ppt/media/image7.png" ContentType="image/png"/>
  <Override PartName="/ppt/media/image8.png" ContentType="image/png"/>
  <Override PartName="/ppt/media/image13.png" ContentType="image/png"/>
  <Override PartName="/ppt/media/image12.pct" ContentType="image/x-pi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035E-EF04-414F-B903-4CB459244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1099-13F7-4FB5-9C2C-A6403A3CC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ring this hour, we will be talking about several issues which are of general concern and about which most people are at least vaguely familiar. I am not concerned with how much information you have about an issue, but how you think about them. . .” (K&amp;K, 1994 pg. 102). Then present creation/evolution problem. Then move on to the next slide. Will come back to this problem throughout the presentation and ask for your feedback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Patricia M. King</a:t>
            </a:r>
            <a:endParaRPr b="0" lang="en-US" sz="11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N: Associate Professor/Chair of Dept. of Higher Education @ Bowling Green State University. </a:t>
            </a:r>
            <a:endParaRPr b="0" lang="en-US" sz="13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W: Professor of Higher Education @ U-Michigan</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Karen Strohm Kitchener</a:t>
            </a:r>
            <a:endParaRPr b="0" lang="en-US" sz="11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N: Professor in Morgridge College of Education / Director of Counseling , University of Denver. </a:t>
            </a:r>
            <a:endParaRPr b="0" lang="en-US" sz="13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W: retired 2005</a:t>
            </a: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2B9A-6BC2-4338-A5A0-6BDDC05FC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epitome of cognitive simp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8C2C-3A57-4F87-8688-B8EBCED2A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 from a TRUSTED authority, it’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ght” and “wrong” = advancement from Stag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resentational mapping skill” - ability to differentiate b/t Stage1 categories + ability to relate ‘em to each other. Therefore can differentiate right from wrong answers &amp; authorities. (and attribute one to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l more “dogmatic”, than “naï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9A2A-64B0-4E3B-BB37-EB9FD01F5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vs. Bible: “if the latter is correct, the former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19CF-B777-4DED-8F69-C6293FDD0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what feels right” = “whim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s this continues to be challenged, w/ more diverse views, Stage 4 is encouraged</a:t>
            </a:r>
            <a:r>
              <a:rPr b="0" i="1" lang="en-US" sz="1200" spc="-1" strike="noStrike">
                <a:solidFill>
                  <a:srgbClr val="000000"/>
                </a:solidFill>
                <a:latin typeface="Lucida Grande"/>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B743-938A-4C67-9371-E54963FB4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05F7-635B-42FE-9352-EF1BD7566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9F47-B214-4809-BD35-672CA0D19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at it’s not certain = advancement over St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 idiosyncratic to the individual-- Neither evidence nor its evaluation = certain; therefore it’s up to the individual’s idiosyncra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ere don’t reason that evidence entails a conclusion, therefore personal beliefs --&gt; choose evidence, to support preconceived beli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ed w/ inherent contradictions in their own thinking; </a:t>
            </a:r>
            <a:r>
              <a:rPr b="0" i="1" lang="en-US" sz="1200" spc="-1" strike="noStrike">
                <a:solidFill>
                  <a:srgbClr val="000000"/>
                </a:solidFill>
                <a:latin typeface="Times New Roman"/>
              </a:rPr>
              <a:t>Stage 5 helps to resolve the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ADF8-2C71-43CB-B5B2-E41A72DBE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AC7C-0455-4E31-9BB9-2E126302D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bstract mapping” - relating two abstractions: contrasting --&gt; further differentiation from each other; comparing --&gt; integrated in new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roader connected views” = not constrained by idiosyncratic justifications of St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missing is the ability to compare &amp; contrast evidence across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5 is nice… but doesn’t </a:t>
            </a:r>
            <a:r>
              <a:rPr b="1" i="1" lang="en-US" sz="1200" spc="-1" strike="noStrike">
                <a:solidFill>
                  <a:srgbClr val="000000"/>
                </a:solidFill>
                <a:latin typeface="Times New Roman"/>
              </a:rPr>
              <a:t>SOLVE </a:t>
            </a:r>
            <a:r>
              <a:rPr b="0" lang="en-US" sz="1200" spc="-1" strike="noStrike">
                <a:solidFill>
                  <a:srgbClr val="000000"/>
                </a:solidFill>
                <a:latin typeface="Times New Roman"/>
              </a:rPr>
              <a:t>problem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A948-3A0A-4728-83E1-709727733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8B00-4CBC-4FA3-8292-075E063A3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skillful, responsible thinking that facilitates good judgment because it (1) relies upon criteria, (2) is self-correcting, and (3) is sensitive to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ve thinking requires the continual evaluation of beliefs, assumptions, and hypotheses against existing data and against other plausible interpretations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wey! (1933, 1938) - “one of the earliest expositions of reflective thinking”.  “…his astute observation that uncertainty is a characteristic of the search for knowledge.” (p.1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291D-6A77-4202-BDD5-AD03C2F31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ABF7-E4CE-4478-AE13-E7A71CBF5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nowing” = process; no longer a spectator</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nowledge is uncertain”: </a:t>
            </a:r>
            <a:r>
              <a:rPr b="0" lang="en-US" sz="1300" spc="-1" strike="noStrike">
                <a:solidFill>
                  <a:srgbClr val="ffffff"/>
                </a:solidFill>
                <a:latin typeface="Arial"/>
              </a:rPr>
              <a:t>must be understood w/ relation to context &amp; evidence</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e view may be better”: the other = less compelling, less evidence, less appropriat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iteria” = weight of evidence, utility of solution, pragmatic need for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ystem of knowing”: comparisons/conclusions are embedded, so conclusions remain limited &amp; situational</a:t>
            </a:r>
            <a:endParaRPr b="0" lang="en-US" sz="12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UT - still fail to understand the larger system of knowing…</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STAGE 7,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5DF5-4119-4DAE-AC7A-54684DC79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D268-630B-4E4E-A5CF-6B40C9C11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bstract internal referents”: used to judge problems &amp; reintegrated into a general principle ; CRITICAL INQUIRY. “that which best fits the evidence as I know it.”, “that which is discrepant from generally observ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ynthesized”: into epistemically justifiable conjectures re: nature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ment over Stage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telligent, reflectiv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dividuality, constrained by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illingness to critique one’s own reas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PERRY (1970), &amp; “commitment to relativism”, “the idea of being committed to a point of view does NOT fit here, given the assumptions that all conclusions are open to reevaluation based on new info or interpretatio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C2E3-1A9D-4B78-BB75-BC9A6F5C5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1774-572E-4A73-A963-82E51431E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Problem #3: Handou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6740-387C-401E-9268-D35447594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Problem #3: Handou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F2E1-FBE2-4352-8E19-F549323F1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61 and 162 tables, pg. 166 ~ more variable among seniors from state schools to highly selective liberal arts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6EDD-A388-4EBC-AC60-B297167BE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student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 differences – pg. 1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 cultural differences pg. 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73 differences among graduate student discip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ES: p. 1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8FC2-AD89-4B6B-854F-D1239FE15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1 – Developing competence: Skill in using one’s mind; mastering content, gaining intellectual and aesthetic sophistication, and building a repertoire of skills to comprehend, analyze, and synthe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7 – Developing integrity: closely related to establishing identity and clarifying purposes. Our core values and beliefs provide the foundation for interpreting experience, guiding behavior, and maintaining self-re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A716-BD07-48A2-9162-BF9F92F85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major differences between the typical descriptions of critical thinking and our conception of reflective judgement: the epistemological assumptions (assumptions about knowledge) on which the thinking person operates and the structure of the problem being addressed. Basically, awareness of uncertainty MUST exist prior to the initiation of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6FC0-E1C2-4C0D-B378-92FAF081A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oss-cultural”: </a:t>
            </a:r>
            <a:r>
              <a:rPr b="0" lang="en-US" sz="3600" spc="-1" strike="noStrike">
                <a:solidFill>
                  <a:srgbClr val="ffffff"/>
                </a:solidFill>
                <a:latin typeface="Arial"/>
              </a:rPr>
              <a:t>Religion, race/ethnicity, language…</a:t>
            </a:r>
            <a:endParaRPr b="0" lang="en-US" sz="3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mographics”:  scores are by age and/or group (eg. HS/BA/grad student)-- what about location/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090D-AB8A-4687-80C5-C0EFB2243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8764-C32F-4523-AEBB-798F9A243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 (psychologists, IR, fac’t/stud. aff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661D-4F35-45D6-BC7C-27EAB5CFB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BD4C-13C3-4B8A-80DF-18390C75A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used more so for well structured problems, where as reflective thinking, which leads to reflective judgment is used when an ill-structured problem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gives a detailed description of the differences between ill-structured and well-structured problems. An example of a well-structured problem would be something like figuring the yield rate of a university or college (first time degree seekers/total ad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n ill-structured problem would be more along the lines of . . .(use one from list - “religion/evolution” #3 ) what’s one of Braxton’s reten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age the class: Would anyone care to share the first time you encountered an ill-structured problem that required you to engage in some form of reflective thin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45F7-F4E5-4357-8E1E-7CF83AC25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Reflective Judgment Model and the method of data collection (Reflective Judgment Interview)</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C187-2453-481D-991F-C9DE83489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ate, more than 1,700 individuals representing a wide variety of student and nonstudent subgroups, have participated in the RJI (Reflective Judgment Interview). This number includes almost 200 people who took part in longitudinal studies, over 150 high school students, and 1,100 college students (both traditional-age and adult samples), and about 200 graduate students. In addition, more than 150 nonstudent adults were tested” (K&amp;K, 1994 pg. 1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162E-7B9E-441D-BEC0-2E5B2B358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ve Judgment Interview (RJI) measures how students typically function, not how they might function under optimal learning and testing conditions (pg. 1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gt; but is there a “typical” student?  eg. </a:t>
            </a:r>
            <a:r>
              <a:rPr b="0" i="1" lang="en-US" sz="1200" spc="-1" strike="noStrike">
                <a:solidFill>
                  <a:srgbClr val="000000"/>
                </a:solidFill>
                <a:latin typeface="Times New Roman"/>
              </a:rPr>
              <a:t>IDENTITY!</a:t>
            </a:r>
            <a:r>
              <a:rPr b="0" lang="en-US" sz="1200" spc="-1" strike="noStrike">
                <a:solidFill>
                  <a:srgbClr val="000000"/>
                </a:solidFill>
                <a:latin typeface="Times New Roman"/>
              </a:rPr>
              <a:t>  … we’ll get to that la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9E94-0049-4225-AD02-7824FA81B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or instance, by evaluation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y know is absolutely correct, and they know with complete 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blems treated as well-structu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CEC5-1386-4C29-90C7-4ED3008C3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t>
            </a:r>
            <a:r>
              <a:rPr b="0" i="1" lang="en-US" sz="800" spc="-1" strike="noStrike">
                <a:solidFill>
                  <a:srgbClr val="000000"/>
                </a:solidFill>
                <a:latin typeface="Times New Roman"/>
              </a:rPr>
              <a:t>single representational skill”: ability to use single, undifferentiated concrete categories--and coz it’s concrete, you can’t relate two diff. views of the same issu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no one was a “pure Stage 1” - not even HS frosh in lower academic 1/3 of clas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eeking answers--even from authorities--forces one out of Stage 1</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753CB-E411-409B-9B1A-A0180B53B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015B1-56B5-4BCE-B85A-EA3DD1A39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64A19-CD76-4398-9798-7C2B6C896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99EE9-E72D-40B9-BE84-B983D9947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BB931-7A2B-4BDC-9248-EBE410A4D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C2B6D-9E00-456A-B3FA-EE8ED6109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76AB1-36FC-4E22-BABA-D0D6AE049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71729-1235-4327-B237-2BE24C649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7563B-1AAF-4512-BD13-F9A282CA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D0C9-BC17-4239-8AF8-6AC48D085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4A007-B871-4C29-B040-89975B519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A32D-E41F-4020-B662-A8700BB11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48B8-A0B6-414B-B89C-6BF796670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umich.edu/~refjudg/index.html"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294920"/>
            <a:ext cx="891540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600" spc="-1" strike="noStrike">
                <a:solidFill>
                  <a:srgbClr val="ffffff"/>
                </a:solidFill>
                <a:latin typeface="Tahoma"/>
              </a:rPr>
              <a:t>DEVELOPING REFLECTIVE JUDGMENT</a:t>
            </a:r>
            <a:endParaRPr b="0" lang="en-US" sz="5600" spc="-1" strike="noStrike">
              <a:solidFill>
                <a:srgbClr val="000000"/>
              </a:solidFill>
              <a:latin typeface="Times New Roman"/>
            </a:endParaRPr>
          </a:p>
        </p:txBody>
      </p:sp>
      <p:sp>
        <p:nvSpPr>
          <p:cNvPr id="49" name="PlaceHolder 2"/>
          <p:cNvSpPr>
            <a:spLocks noGrp="1"/>
          </p:cNvSpPr>
          <p:nvPr>
            <p:ph type="subTitle"/>
          </p:nvPr>
        </p:nvSpPr>
        <p:spPr>
          <a:xfrm>
            <a:off x="1447920" y="4419360"/>
            <a:ext cx="7223040" cy="579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ricia M. King &amp; Karen Strohm Kitchener</a:t>
            </a:r>
            <a:r>
              <a:rPr b="0" lang="en-US" sz="3100" spc="-1" strike="noStrike">
                <a:solidFill>
                  <a:srgbClr val="ffffff"/>
                </a:solidFill>
                <a:latin typeface="Tahoma"/>
              </a:rPr>
              <a:t> </a:t>
            </a:r>
            <a:r>
              <a:rPr b="0" lang="en-US" sz="2200" spc="-1" strike="noStrike">
                <a:solidFill>
                  <a:srgbClr val="ffffff"/>
                </a:solidFill>
                <a:latin typeface="Tahoma"/>
              </a:rPr>
              <a:t>(1994)</a:t>
            </a:r>
            <a:endParaRPr b="0" lang="en-US" sz="2200" spc="-1" strike="noStrike">
              <a:solidFill>
                <a:srgbClr val="000000"/>
              </a:solidFill>
              <a:latin typeface="Times New Roman"/>
            </a:endParaRPr>
          </a:p>
        </p:txBody>
      </p:sp>
      <p:sp>
        <p:nvSpPr>
          <p:cNvPr id="50" name="Text Box 4"/>
          <p:cNvSpPr/>
          <p:nvPr/>
        </p:nvSpPr>
        <p:spPr>
          <a:xfrm>
            <a:off x="6418440" y="6753240"/>
            <a:ext cx="375444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ented by: Gwendolyn Williams &amp; Michael Montgomery. March 16,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18960" y="2971800"/>
            <a:ext cx="7645320" cy="11700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 I have seen, is true.”</a:t>
            </a:r>
            <a:r>
              <a:rPr b="0" lang="en-US" sz="3600" spc="-1" strike="noStrike">
                <a:solidFill>
                  <a:srgbClr val="ffffff"/>
                </a:solidFill>
                <a:latin typeface="Arial"/>
              </a:rPr>
              <a:t> </a:t>
            </a:r>
            <a:endParaRPr b="0" lang="en-US" sz="3600" spc="-1" strike="noStrike">
              <a:solidFill>
                <a:srgbClr val="000000"/>
              </a:solidFill>
              <a:latin typeface="Times New Roman"/>
            </a:endParaRPr>
          </a:p>
        </p:txBody>
      </p:sp>
      <p:sp>
        <p:nvSpPr>
          <p:cNvPr id="76"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77" name="Oval 9"/>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0"/>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12" descr="eyes"/>
          <p:cNvPicPr/>
          <p:nvPr/>
        </p:nvPicPr>
        <p:blipFill>
          <a:blip r:embed="rId1"/>
          <a:stretch/>
        </p:blipFill>
        <p:spPr>
          <a:xfrm>
            <a:off x="12600" y="3962520"/>
            <a:ext cx="4762440" cy="298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761760" y="1981080"/>
            <a:ext cx="8762760" cy="51818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t>
            </a:r>
            <a:r>
              <a:rPr b="0" lang="en-US" sz="2900" spc="-1" strike="noStrike" u="sng">
                <a:solidFill>
                  <a:srgbClr val="ffffff"/>
                </a:solidFill>
                <a:uFillTx/>
                <a:latin typeface="Arial"/>
              </a:rPr>
              <a:t>is</a:t>
            </a:r>
            <a:r>
              <a:rPr b="0" lang="en-US" sz="2900" spc="-1" strike="noStrike">
                <a:solidFill>
                  <a:srgbClr val="ffffff"/>
                </a:solidFill>
                <a:latin typeface="Arial"/>
              </a:rPr>
              <a:t> a true reality, to be known with certainty, but not everyone will</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is the domain of authorities; disagree with authorities and you’re wrong</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RE “right” and “wrong” beliefs about the same issu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fferences of opinion are acknowledged (but if not from authority, it’s “wrong”)</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representational mapping skill” (Fischer, 1980)</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dualistic epistemology” (Perry, 1970)</a:t>
            </a:r>
            <a:endParaRPr b="0" lang="en-US" sz="2900" spc="-1" strike="noStrike">
              <a:solidFill>
                <a:srgbClr val="000000"/>
              </a:solidFill>
              <a:latin typeface="Times New Roman"/>
            </a:endParaRPr>
          </a:p>
        </p:txBody>
      </p:sp>
      <p:sp>
        <p:nvSpPr>
          <p:cNvPr id="81"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82" name="Oval 8"/>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9"/>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761760" y="2285640"/>
            <a:ext cx="8831160" cy="10414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f it is on the news, it has to be true."</a:t>
            </a:r>
            <a:endParaRPr b="0" lang="en-US" sz="4000" spc="-1" strike="noStrike">
              <a:solidFill>
                <a:srgbClr val="000000"/>
              </a:solidFill>
              <a:latin typeface="Times New Roman"/>
            </a:endParaRPr>
          </a:p>
        </p:txBody>
      </p:sp>
      <p:pic>
        <p:nvPicPr>
          <p:cNvPr id="85" name="Picture 4" descr=""/>
          <p:cNvPicPr/>
          <p:nvPr/>
        </p:nvPicPr>
        <p:blipFill>
          <a:blip r:embed="rId1"/>
          <a:stretch/>
        </p:blipFill>
        <p:spPr>
          <a:xfrm>
            <a:off x="247680" y="3724200"/>
            <a:ext cx="3565440" cy="2819520"/>
          </a:xfrm>
          <a:prstGeom prst="rect">
            <a:avLst/>
          </a:prstGeom>
          <a:ln w="0">
            <a:noFill/>
          </a:ln>
        </p:spPr>
      </p:pic>
      <p:sp>
        <p:nvSpPr>
          <p:cNvPr id="86" name="Text Box 9"/>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87"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4" descr="newyork"/>
          <p:cNvPicPr/>
          <p:nvPr/>
        </p:nvPicPr>
        <p:blipFill>
          <a:blip r:embed="rId2"/>
          <a:stretch/>
        </p:blipFill>
        <p:spPr>
          <a:xfrm>
            <a:off x="4724280" y="4648320"/>
            <a:ext cx="4734000" cy="71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749160" y="1996560"/>
            <a:ext cx="8699760" cy="5318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eliefs based on authorities for some issues; but recognition that sometimes, no way to justify knowledge claims</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liance on personal opinion, “what feels right at the moment”</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reas of temporary uncertainty = differences of opinion</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idence that concrete truth to be found </a:t>
            </a:r>
            <a:r>
              <a:rPr b="0" i="1" lang="en-US" sz="2900" spc="-1" strike="noStrike">
                <a:solidFill>
                  <a:srgbClr val="ffffff"/>
                </a:solidFill>
                <a:latin typeface="Arial"/>
              </a:rPr>
              <a:t>in the futur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usion when faced with problems without certain knowledge</a:t>
            </a:r>
            <a:endParaRPr b="0" lang="en-US" sz="2900" spc="-1" strike="noStrike">
              <a:solidFill>
                <a:srgbClr val="000000"/>
              </a:solidFill>
              <a:latin typeface="Times New Roman"/>
            </a:endParaRPr>
          </a:p>
        </p:txBody>
      </p:sp>
      <p:sp>
        <p:nvSpPr>
          <p:cNvPr id="91"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92"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2286000"/>
            <a:ext cx="866160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in some areas, authorities don’t know the truth, and people can therefore believe what they want to believe.”</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en there is evidence that people can give to convince everybody one way or another, then it will be knowledge, until then, it's just a guess.”</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96"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2120"/>
            <a:ext cx="883908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QUASI-REFLECTIVE THINKING (Stages 4-5)</a:t>
            </a:r>
            <a:endParaRPr b="0" lang="en-US" sz="4900" spc="-1" strike="noStrike">
              <a:solidFill>
                <a:srgbClr val="000000"/>
              </a:solidFill>
              <a:latin typeface="Times New Roman"/>
            </a:endParaRPr>
          </a:p>
        </p:txBody>
      </p:sp>
      <p:sp>
        <p:nvSpPr>
          <p:cNvPr id="99" name="PlaceHolder 2"/>
          <p:cNvSpPr>
            <a:spLocks noGrp="1"/>
          </p:cNvSpPr>
          <p:nvPr>
            <p:ph type="subTitle"/>
          </p:nvPr>
        </p:nvSpPr>
        <p:spPr>
          <a:xfrm>
            <a:off x="749160" y="2514600"/>
            <a:ext cx="8661600" cy="44625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cognition that some problems are ill-structured; understanding that some issues are truly problematic</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blems with using evidence to reach a conclusion, to justify beliefs (idiosyncrasies)</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certainty attributed to missing information or method of collec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3040" y="1912680"/>
            <a:ext cx="8691480" cy="57070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annot know with certainty, and it’s NOT temporary; evidence might exist, but doesn’t offer certainty</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differentiation between knowledge and justification</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o separate beliefs, from </a:t>
            </a:r>
            <a:r>
              <a:rPr b="0" i="1" lang="en-US" sz="2800" spc="-1" strike="noStrike">
                <a:solidFill>
                  <a:srgbClr val="ffffff"/>
                </a:solidFill>
                <a:latin typeface="Arial"/>
              </a:rPr>
              <a:t>evidence</a:t>
            </a:r>
            <a:r>
              <a:rPr b="0" lang="en-US" sz="2800" spc="-1" strike="noStrike">
                <a:solidFill>
                  <a:srgbClr val="ffffff"/>
                </a:solidFill>
                <a:latin typeface="Arial"/>
              </a:rPr>
              <a:t> of those belief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willing to make judgments about others’ ideas/beliefs, but assume that others-- including authorities-- are biased</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that in some areas, knowledge will never be certain</a:t>
            </a:r>
            <a:endParaRPr b="0" lang="en-US" sz="2800" spc="-1" strike="noStrike">
              <a:solidFill>
                <a:srgbClr val="000000"/>
              </a:solidFill>
              <a:latin typeface="Times New Roman"/>
            </a:endParaRPr>
          </a:p>
        </p:txBody>
      </p:sp>
      <p:sp>
        <p:nvSpPr>
          <p:cNvPr id="101"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02" name="Oval 11"/>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12"/>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560" y="1913040"/>
            <a:ext cx="4025880" cy="5402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i="1" lang="en-US" sz="2900" spc="-1" strike="noStrike">
                <a:solidFill>
                  <a:srgbClr val="ffffff"/>
                </a:solidFill>
                <a:latin typeface="Arial"/>
              </a:rPr>
              <a:t>I’d be more inclined to believe it [evolution] if they had proof. It’s just like the pyramids. I don’t think we’ll ever know. </a:t>
            </a:r>
            <a:r>
              <a:rPr b="0" i="1" lang="en-US" sz="2800" spc="-1" strike="noStrike">
                <a:solidFill>
                  <a:srgbClr val="ffffff"/>
                </a:solidFill>
                <a:latin typeface="Arial"/>
              </a:rPr>
              <a:t>People will come up with</a:t>
            </a:r>
            <a:r>
              <a:rPr b="0" i="1" lang="en-US" sz="2900" spc="-1" strike="noStrike">
                <a:solidFill>
                  <a:srgbClr val="ffffff"/>
                </a:solidFill>
                <a:latin typeface="Arial"/>
              </a:rPr>
              <a:t> different interpretations because people differ. Who are you going to ask? Because no one was there.”</a:t>
            </a:r>
            <a:endParaRPr b="0" lang="en-US" sz="2900" spc="-1" strike="noStrike">
              <a:solidFill>
                <a:srgbClr val="000000"/>
              </a:solidFill>
              <a:latin typeface="Times New Roman"/>
            </a:endParaRPr>
          </a:p>
        </p:txBody>
      </p:sp>
      <p:pic>
        <p:nvPicPr>
          <p:cNvPr id="105" name="Picture 4" descr=""/>
          <p:cNvPicPr/>
          <p:nvPr/>
        </p:nvPicPr>
        <p:blipFill>
          <a:blip r:embed="rId1"/>
          <a:stretch/>
        </p:blipFill>
        <p:spPr>
          <a:xfrm>
            <a:off x="4649760" y="2114640"/>
            <a:ext cx="5357880" cy="3543120"/>
          </a:xfrm>
          <a:prstGeom prst="rect">
            <a:avLst/>
          </a:prstGeom>
          <a:ln w="0">
            <a:noFill/>
          </a:ln>
        </p:spPr>
      </p:pic>
      <p:sp>
        <p:nvSpPr>
          <p:cNvPr id="106" name="Text Box 5"/>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07"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761760" y="1904760"/>
            <a:ext cx="8699400" cy="55465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ing is all </a:t>
            </a:r>
            <a:r>
              <a:rPr b="0" i="1" lang="en-US" sz="2800" spc="-1" strike="noStrike">
                <a:solidFill>
                  <a:srgbClr val="ffffff"/>
                </a:solidFill>
                <a:latin typeface="Arial"/>
              </a:rPr>
              <a:t>context - </a:t>
            </a:r>
            <a:r>
              <a:rPr b="0" lang="en-US" sz="2800" spc="-1" strike="noStrike">
                <a:solidFill>
                  <a:srgbClr val="ffffff"/>
                </a:solidFill>
                <a:latin typeface="Arial"/>
              </a:rPr>
              <a:t>subjective interpretations of evidence (“relativism”) --&gt; legitimately different conclusion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bstract mapping skills</a:t>
            </a:r>
            <a:r>
              <a:rPr b="0" lang="en-US" sz="2800" spc="-1" strike="noStrike">
                <a:solidFill>
                  <a:srgbClr val="ffffff"/>
                </a:solidFill>
                <a:latin typeface="Arial"/>
              </a:rPr>
              <a:t> - relating two abstractions (Fischer, 1980)</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more connected views; so a more balanced picture of issue/problem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of alternative theories, and that some evidence doesn’t support any particular one (Kuhn, 1989)</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ight”, “wrong” are inappropriate; it’s about interpretations…</a:t>
            </a:r>
            <a:endParaRPr b="0" lang="en-US" sz="2800" spc="-1" strike="noStrike">
              <a:solidFill>
                <a:srgbClr val="000000"/>
              </a:solidFill>
              <a:latin typeface="Times New Roman"/>
            </a:endParaRPr>
          </a:p>
        </p:txBody>
      </p:sp>
      <p:sp>
        <p:nvSpPr>
          <p:cNvPr id="11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1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49160" y="2336400"/>
            <a:ext cx="8661600" cy="48942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s known is always limited by the perspective of the knower.”</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eople think differently and so they attack the problem differently. Other theories could be as true as my own, but based on different evidence."</a:t>
            </a:r>
            <a:endParaRPr b="0" lang="en-US" sz="3600" spc="-1" strike="noStrike">
              <a:solidFill>
                <a:srgbClr val="000000"/>
              </a:solidFill>
              <a:latin typeface="Times New Roman"/>
            </a:endParaRPr>
          </a:p>
        </p:txBody>
      </p:sp>
      <p:sp>
        <p:nvSpPr>
          <p:cNvPr id="114"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15"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35100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000000"/>
              </a:solidFill>
              <a:latin typeface="Times New Roman"/>
            </a:endParaRPr>
          </a:p>
        </p:txBody>
      </p:sp>
      <p:sp>
        <p:nvSpPr>
          <p:cNvPr id="52" name="PlaceHolder 2"/>
          <p:cNvSpPr>
            <a:spLocks noGrp="1"/>
          </p:cNvSpPr>
          <p:nvPr>
            <p:ph type="subTitle"/>
          </p:nvPr>
        </p:nvSpPr>
        <p:spPr>
          <a:xfrm>
            <a:off x="796680" y="1873080"/>
            <a:ext cx="8566200" cy="51674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thinking relies on criteria, is self-correcting, and is sensitive to context (1994, pg. 8)</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e thinking requires the continual evaluation of beliefs, assumptions, and hypotheses against existing data and against other plausible interpretations of the data and is also open to self correction (1994, pg. 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9160" y="727200"/>
            <a:ext cx="8699760" cy="1482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REFLECTIVE THINKING</a:t>
            </a:r>
            <a:br>
              <a:rPr sz="4900"/>
            </a:br>
            <a:r>
              <a:rPr b="1" lang="en-US" sz="4900" spc="-1" strike="noStrike">
                <a:solidFill>
                  <a:srgbClr val="ffffff"/>
                </a:solidFill>
                <a:latin typeface="Arial"/>
              </a:rPr>
              <a:t>(Stages 6-7)</a:t>
            </a:r>
            <a:endParaRPr b="0" lang="en-US" sz="4900" spc="-1" strike="noStrike">
              <a:solidFill>
                <a:srgbClr val="000000"/>
              </a:solidFill>
              <a:latin typeface="Times New Roman"/>
            </a:endParaRPr>
          </a:p>
        </p:txBody>
      </p:sp>
      <p:sp>
        <p:nvSpPr>
          <p:cNvPr id="118" name="PlaceHolder 2"/>
          <p:cNvSpPr>
            <a:spLocks noGrp="1"/>
          </p:cNvSpPr>
          <p:nvPr>
            <p:ph type="subTitle"/>
          </p:nvPr>
        </p:nvSpPr>
        <p:spPr>
          <a:xfrm>
            <a:off x="749160" y="2674440"/>
            <a:ext cx="8661600" cy="4472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not a given; has to be actively constructed</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clusions must remain open to reevaluation</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Dewey’s Reflective Thinking</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85440" y="2286000"/>
            <a:ext cx="8852040" cy="45720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nowing requires action on the part of the knower</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ll-structured problems need solutions that must be constructed &amp; evaluated by criteria - even for experts!</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nowledge is uncertain</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jection of “right” and “wrong”… but one view may be better? </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cision based on compelling nature of evidence, not idiosyncratic reasoning (Stage 4)</a:t>
            </a:r>
            <a:endParaRPr b="0" lang="en-US" sz="2700" spc="-1" strike="noStrike">
              <a:solidFill>
                <a:srgbClr val="000000"/>
              </a:solidFill>
              <a:latin typeface="Times New Roman"/>
            </a:endParaRPr>
          </a:p>
        </p:txBody>
      </p:sp>
      <p:sp>
        <p:nvSpPr>
          <p:cNvPr id="12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2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64920" y="1913040"/>
            <a:ext cx="8829720" cy="2270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It's very difficult in this life to be sure. There are degrees of sureness. You come to a point at which you are sure enough for a personal stance on the issue."</a:t>
            </a:r>
            <a:endParaRPr b="0" lang="en-US" sz="3100" spc="-1" strike="noStrike">
              <a:solidFill>
                <a:srgbClr val="000000"/>
              </a:solidFill>
              <a:latin typeface="Times New Roman"/>
            </a:endParaRPr>
          </a:p>
        </p:txBody>
      </p:sp>
      <p:pic>
        <p:nvPicPr>
          <p:cNvPr id="124" name="Picture 4" descr=""/>
          <p:cNvPicPr/>
          <p:nvPr/>
        </p:nvPicPr>
        <p:blipFill>
          <a:blip r:embed="rId1"/>
          <a:stretch/>
        </p:blipFill>
        <p:spPr>
          <a:xfrm>
            <a:off x="7299360" y="4076640"/>
            <a:ext cx="1593720" cy="3009960"/>
          </a:xfrm>
          <a:prstGeom prst="rect">
            <a:avLst/>
          </a:prstGeom>
          <a:ln w="0">
            <a:noFill/>
          </a:ln>
        </p:spPr>
      </p:pic>
      <p:pic>
        <p:nvPicPr>
          <p:cNvPr id="125" name="Picture 8" descr=""/>
          <p:cNvPicPr/>
          <p:nvPr/>
        </p:nvPicPr>
        <p:blipFill>
          <a:blip r:embed="rId2"/>
          <a:stretch/>
        </p:blipFill>
        <p:spPr>
          <a:xfrm>
            <a:off x="1647720" y="4038480"/>
            <a:ext cx="1470240" cy="3114720"/>
          </a:xfrm>
          <a:prstGeom prst="rect">
            <a:avLst/>
          </a:prstGeom>
          <a:ln w="0">
            <a:noFill/>
          </a:ln>
        </p:spPr>
      </p:pic>
      <p:sp>
        <p:nvSpPr>
          <p:cNvPr id="126" name="Text Box 9"/>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27"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9160" y="2251080"/>
            <a:ext cx="8699760" cy="47592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lang="en-US" sz="2900" spc="-1" strike="noStrike">
                <a:solidFill>
                  <a:srgbClr val="ffffff"/>
                </a:solidFill>
                <a:latin typeface="Arial"/>
              </a:rPr>
              <a:t>Abstract internal referents”</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lity is not a given, but interpretations can be synthesized</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ritical theory --&gt; some judgments = greater truth</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ole of active inquirers - involved in constructing knowledg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clusions are justifiable, BUT may be superceded in the future by future knowledge and/or explanations</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3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49160" y="1905120"/>
            <a:ext cx="866160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One can judge an argument by how well thought-out the positions are, what kinds of reasoning and evidence are used to support it, and how consistent the way one argues on this topic is as compared with other topics."</a:t>
            </a:r>
            <a:endParaRPr b="0" lang="en-US" sz="3600" spc="-1" strike="noStrike">
              <a:solidFill>
                <a:srgbClr val="000000"/>
              </a:solidFill>
              <a:latin typeface="Times New Roman"/>
            </a:endParaRPr>
          </a:p>
        </p:txBody>
      </p:sp>
      <p:pic>
        <p:nvPicPr>
          <p:cNvPr id="134" name="Picture 7" descr=""/>
          <p:cNvPicPr/>
          <p:nvPr/>
        </p:nvPicPr>
        <p:blipFill>
          <a:blip r:embed="rId1"/>
          <a:stretch/>
        </p:blipFill>
        <p:spPr>
          <a:xfrm>
            <a:off x="819000" y="5514840"/>
            <a:ext cx="2279880" cy="1457640"/>
          </a:xfrm>
          <a:prstGeom prst="rect">
            <a:avLst/>
          </a:prstGeom>
          <a:ln w="0">
            <a:noFill/>
          </a:ln>
        </p:spPr>
      </p:pic>
      <p:sp>
        <p:nvSpPr>
          <p:cNvPr id="135"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36" name="Oval 11"/>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12"/>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743200"/>
            <a:ext cx="86108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JI Problem #3 - “Creation/Evolu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1142640"/>
            <a:ext cx="8763120" cy="6172200"/>
          </a:xfrm>
          <a:prstGeom prst="rect">
            <a:avLst/>
          </a:prstGeom>
          <a:noFill/>
          <a:ln w="0">
            <a:noFill/>
          </a:ln>
        </p:spPr>
        <p:txBody>
          <a:bodyPr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r>
              <a:rPr b="0" lang="en-US" sz="4200" spc="-1" strike="noStrike">
                <a:solidFill>
                  <a:srgbClr val="ffffff"/>
                </a:solidFill>
                <a:latin typeface="Arial"/>
              </a:rPr>
              <a:t>Many religions of the world have creation stories.  These stories suggest that a divine being created the earth and its people.  Scientists claim, however, that people evolved from lower animal forms (some of which are similar to apes) into the human forms known today.”</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96680" y="151920"/>
            <a:ext cx="8566200" cy="117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000000"/>
              </a:solidFill>
              <a:latin typeface="Times New Roman"/>
            </a:endParaRPr>
          </a:p>
        </p:txBody>
      </p:sp>
      <p:graphicFrame>
        <p:nvGraphicFramePr>
          <p:cNvPr id="141" name="Object 5"/>
          <p:cNvGraphicFramePr/>
          <p:nvPr/>
        </p:nvGraphicFramePr>
        <p:xfrm>
          <a:off x="2260440" y="1066680"/>
          <a:ext cx="5639040" cy="6301080"/>
        </p:xfrm>
        <a:graphic>
          <a:graphicData uri="http://schemas.openxmlformats.org/presentationml/2006/ole">
            <p:oleObj progId="Excel.Sheet.12" r:id="rId1" spid="">
              <p:embed/>
              <p:pic>
                <p:nvPicPr>
                  <p:cNvPr id="142" name="Object 5" descr=""/>
                  <p:cNvPicPr/>
                  <p:nvPr/>
                </p:nvPicPr>
                <p:blipFill>
                  <a:blip r:embed="rId2"/>
                  <a:stretch/>
                </p:blipFill>
                <p:spPr>
                  <a:xfrm>
                    <a:off x="2260440" y="1066680"/>
                    <a:ext cx="5639040" cy="630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000000"/>
              </a:solidFill>
              <a:latin typeface="Times New Roman"/>
            </a:endParaRPr>
          </a:p>
        </p:txBody>
      </p:sp>
      <p:sp>
        <p:nvSpPr>
          <p:cNvPr id="144" name="Rectangle 3"/>
          <p:cNvSpPr/>
          <p:nvPr/>
        </p:nvSpPr>
        <p:spPr>
          <a:xfrm>
            <a:off x="1143000" y="228600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isciplinary Differ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Non-student adul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Gender differ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ross-cultural Differ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ickering &amp; Reisser Relation</a:t>
            </a:r>
            <a:endParaRPr b="0" lang="en-US" sz="4900" spc="-1" strike="noStrike">
              <a:solidFill>
                <a:srgbClr val="000000"/>
              </a:solidFill>
              <a:latin typeface="Times New Roman"/>
            </a:endParaRPr>
          </a:p>
        </p:txBody>
      </p:sp>
      <p:sp>
        <p:nvSpPr>
          <p:cNvPr id="146" name="PlaceHolder 2"/>
          <p:cNvSpPr>
            <a:spLocks noGrp="1"/>
          </p:cNvSpPr>
          <p:nvPr>
            <p:ph type="subTitle"/>
          </p:nvPr>
        </p:nvSpPr>
        <p:spPr>
          <a:xfrm>
            <a:off x="837720" y="1752120"/>
            <a:ext cx="7829640" cy="22798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llectual) competence</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ving through autonomy toward interdependence</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grity</a:t>
            </a:r>
            <a:endParaRPr b="0" lang="en-US" sz="3600" spc="-1" strike="noStrike">
              <a:solidFill>
                <a:srgbClr val="000000"/>
              </a:solidFill>
              <a:latin typeface="Times New Roman"/>
            </a:endParaRPr>
          </a:p>
        </p:txBody>
      </p:sp>
      <p:pic>
        <p:nvPicPr>
          <p:cNvPr id="147" name="Picture 4" descr=""/>
          <p:cNvPicPr/>
          <p:nvPr/>
        </p:nvPicPr>
        <p:blipFill>
          <a:blip r:embed="rId1"/>
          <a:stretch/>
        </p:blipFill>
        <p:spPr>
          <a:xfrm>
            <a:off x="5562720" y="4038480"/>
            <a:ext cx="4251240" cy="31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466200" y="1951200"/>
            <a:ext cx="5187960" cy="49370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2 major differences:</a:t>
            </a:r>
            <a:endParaRPr b="0" lang="en-US" sz="3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pistemological assumptions</a:t>
            </a:r>
            <a:endParaRPr b="0" lang="en-US" sz="34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 of the problem</a:t>
            </a:r>
            <a:endParaRPr b="0" lang="en-US" sz="34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eness of uncertainty must exist prior to the initiation of reflective thinking</a:t>
            </a:r>
            <a:endParaRPr b="0" lang="en-US" sz="3400" spc="-1" strike="noStrike">
              <a:solidFill>
                <a:srgbClr val="000000"/>
              </a:solidFill>
              <a:latin typeface="Times New Roman"/>
            </a:endParaRPr>
          </a:p>
        </p:txBody>
      </p:sp>
      <p:pic>
        <p:nvPicPr>
          <p:cNvPr id="55" name="Picture 4" descr=""/>
          <p:cNvPicPr/>
          <p:nvPr/>
        </p:nvPicPr>
        <p:blipFill>
          <a:blip r:embed="rId1"/>
          <a:stretch/>
        </p:blipFill>
        <p:spPr>
          <a:xfrm>
            <a:off x="5908680" y="2562120"/>
            <a:ext cx="3898800" cy="3038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76440"/>
            <a:ext cx="8636040" cy="1271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Limitations</a:t>
            </a:r>
            <a:endParaRPr b="0" lang="en-US" sz="4900" spc="-1" strike="noStrike">
              <a:solidFill>
                <a:srgbClr val="000000"/>
              </a:solidFill>
              <a:latin typeface="Times New Roman"/>
            </a:endParaRPr>
          </a:p>
        </p:txBody>
      </p:sp>
      <p:sp>
        <p:nvSpPr>
          <p:cNvPr id="149" name="PlaceHolder 2"/>
          <p:cNvSpPr>
            <a:spLocks noGrp="1"/>
          </p:cNvSpPr>
          <p:nvPr>
            <p:ph/>
          </p:nvPr>
        </p:nvSpPr>
        <p:spPr>
          <a:xfrm>
            <a:off x="761760" y="2362320"/>
            <a:ext cx="8636040" cy="4573440"/>
          </a:xfrm>
          <a:prstGeom prst="rect">
            <a:avLst/>
          </a:prstGeom>
          <a:noFill/>
          <a:ln w="0">
            <a:noFill/>
          </a:ln>
        </p:spPr>
        <p:txBody>
          <a:bodyPr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ross-Cultural: only by (1) country?  </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mographics - location/geograp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6680" y="502920"/>
            <a:ext cx="8499240" cy="1020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000000"/>
              </a:solidFill>
              <a:latin typeface="Times New Roman"/>
            </a:endParaRPr>
          </a:p>
        </p:txBody>
      </p:sp>
      <p:sp>
        <p:nvSpPr>
          <p:cNvPr id="151" name="Rectangle 4"/>
          <p:cNvSpPr/>
          <p:nvPr/>
        </p:nvSpPr>
        <p:spPr>
          <a:xfrm>
            <a:off x="609480" y="3276720"/>
            <a:ext cx="883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ヒラギノ角ゴ Pro W3"/>
              </a:rPr>
              <a:t>“</a:t>
            </a:r>
            <a:r>
              <a:rPr b="0" lang="en-US" sz="2800" spc="-1" strike="noStrike">
                <a:solidFill>
                  <a:srgbClr val="ffffff"/>
                </a:solidFill>
                <a:latin typeface="Times New Roman"/>
                <a:ea typeface="ヒラギノ角ゴ Pro W3"/>
              </a:rPr>
              <a:t>I</a:t>
            </a:r>
            <a:r>
              <a:rPr b="0" lang="en-US" sz="2800" spc="-1" strike="noStrike">
                <a:solidFill>
                  <a:srgbClr val="ffffff"/>
                </a:solidFill>
                <a:latin typeface="Times New Roman"/>
              </a:rPr>
              <a:t>n the final analysis, the challenge of college, for students and faculty members alike, is empowering individuals to know that the world is far more complex than it first appears, and that they must make interpretative arguments and decisions—judgments that entail real consequences for which they must take responsibility and from which they may not flee by disclaiming expertise.” (Chapter 9, p. 222)</a:t>
            </a:r>
            <a:endParaRPr b="0" lang="en-US" sz="2800" spc="-1" strike="noStrike">
              <a:solidFill>
                <a:srgbClr val="000000"/>
              </a:solidFill>
              <a:latin typeface="Times New Roman"/>
            </a:endParaRPr>
          </a:p>
        </p:txBody>
      </p:sp>
      <p:sp>
        <p:nvSpPr>
          <p:cNvPr id="152" name="Rectangle 5"/>
          <p:cNvSpPr/>
          <p:nvPr/>
        </p:nvSpPr>
        <p:spPr>
          <a:xfrm>
            <a:off x="609480" y="16002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ヒラギノ角ゴ Pro W3"/>
              </a:rPr>
              <a:t>“</a:t>
            </a:r>
            <a:r>
              <a:rPr b="0" lang="en-US" sz="2800" spc="-1" strike="noStrike">
                <a:solidFill>
                  <a:srgbClr val="ffffff"/>
                </a:solidFill>
                <a:latin typeface="Times New Roman"/>
                <a:ea typeface="ヒラギノ角ゴ Pro W3"/>
              </a:rPr>
              <a:t>T</a:t>
            </a:r>
            <a:r>
              <a:rPr b="0" lang="en-US" sz="2800" spc="-1" strike="noStrike">
                <a:solidFill>
                  <a:srgbClr val="ffffff"/>
                </a:solidFill>
                <a:latin typeface="Times New Roman"/>
              </a:rPr>
              <a:t>eaching students to engage in reflective thinking and to make reflective judgments about vexing problems is a central goal of higher education.” (Chapter 9, p. 22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762120" y="1676520"/>
            <a:ext cx="8686800" cy="533376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w respect for students' assumptions, regardless of the developmental stage(s) they exhibit. </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scuss controversial, ill-structured issues with students </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ate many opportunities for students to analyze others' points of view</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ach students strategies for systematically gathering &amp; assessing the relevance of data, &amp; evaluating its sources, and making interpretive judgments based on it.</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vide feedback &amp; provide both cognitive and emotional support</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lp to address issues of uncertainty in judgment-making &amp; to examine their assumptions about knowledge</a:t>
            </a:r>
            <a:r>
              <a:rPr b="0" lang="en-US" sz="2500" spc="-1" strike="noStrike">
                <a:solidFill>
                  <a:srgbClr val="ffffff"/>
                </a:solidFill>
                <a:latin typeface="Times New Roman"/>
              </a:rPr>
              <a:t> </a:t>
            </a:r>
            <a:endParaRPr b="0" lang="en-US" sz="2500" spc="-1" strike="noStrike">
              <a:solidFill>
                <a:srgbClr val="000000"/>
              </a:solidFill>
              <a:latin typeface="Times New Roman"/>
            </a:endParaRPr>
          </a:p>
        </p:txBody>
      </p:sp>
      <p:sp>
        <p:nvSpPr>
          <p:cNvPr id="154" name="Rectangle 13"/>
          <p:cNvSpPr/>
          <p:nvPr/>
        </p:nvSpPr>
        <p:spPr>
          <a:xfrm>
            <a:off x="797040" y="503280"/>
            <a:ext cx="8499240" cy="10206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797040" y="503280"/>
            <a:ext cx="8566200" cy="709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erences</a:t>
            </a:r>
            <a:endParaRPr b="0" lang="en-US" sz="4900" spc="-1" strike="noStrike">
              <a:solidFill>
                <a:srgbClr val="000000"/>
              </a:solidFill>
              <a:latin typeface="Times New Roman"/>
            </a:endParaRPr>
          </a:p>
        </p:txBody>
      </p:sp>
      <p:sp>
        <p:nvSpPr>
          <p:cNvPr id="156" name="PlaceHolder 1"/>
          <p:cNvSpPr>
            <a:spLocks noGrp="1"/>
          </p:cNvSpPr>
          <p:nvPr>
            <p:ph/>
          </p:nvPr>
        </p:nvSpPr>
        <p:spPr>
          <a:xfrm>
            <a:off x="761760" y="1599840"/>
            <a:ext cx="8636040" cy="5173560"/>
          </a:xfrm>
          <a:prstGeom prst="rect">
            <a:avLst/>
          </a:prstGeom>
          <a:noFill/>
          <a:ln w="0">
            <a:noFill/>
          </a:ln>
        </p:spPr>
        <p:txBody>
          <a:bodyPr anchor="t">
            <a:normAutofit fontScale="99000"/>
          </a:bodyPr>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scher, K.W. (1980). A theory of cognitive development: The        control and construction of hierarchies of skills. Psychological     Review, 87(6), 477-531. </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P.M. Reflective Judgment.  Retrieved January 26, 2009        from </a:t>
            </a:r>
            <a:r>
              <a:rPr b="0" lang="en-US" sz="2200" spc="-1" strike="noStrike" u="sng">
                <a:solidFill>
                  <a:srgbClr val="ccccff"/>
                </a:solidFill>
                <a:uFillTx/>
                <a:latin typeface="Arial"/>
                <a:hlinkClick r:id="rId1"/>
              </a:rPr>
              <a:t>http://www.umich.edu/~refjudg/index.html</a:t>
            </a:r>
            <a:r>
              <a:rPr b="0" lang="en-US" sz="2200" spc="-1" strike="noStrike">
                <a:solidFill>
                  <a:srgbClr val="ffffff"/>
                </a:solidFill>
                <a:latin typeface="Arial"/>
              </a:rPr>
              <a:t>.</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P.M. and Kitchener, K.S. (1994). Developing Reflective        Judgment.  San Francisco: Jossey-Bass.</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uhn, D. (1989). "Children and Adults as Intuitive Scientists."        Psychological Review, 96, pp. 674-689.</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ry, W.G., Jr. (1970). Forms of Intellectual and Ethical        Development in the College Years: A Scheme.  Troy, MO:</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Holt, Rinehart &amp; Winst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96680" y="2746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Well- and Ill-Structured Problems</a:t>
            </a:r>
            <a:endParaRPr b="0" lang="en-US" sz="4500" spc="-1" strike="noStrike">
              <a:solidFill>
                <a:srgbClr val="000000"/>
              </a:solidFill>
              <a:latin typeface="Times New Roman"/>
            </a:endParaRPr>
          </a:p>
        </p:txBody>
      </p:sp>
      <p:graphicFrame>
        <p:nvGraphicFramePr>
          <p:cNvPr id="57" name="Object 5"/>
          <p:cNvGraphicFramePr/>
          <p:nvPr/>
        </p:nvGraphicFramePr>
        <p:xfrm>
          <a:off x="431640" y="1492200"/>
          <a:ext cx="8915400" cy="5380200"/>
        </p:xfrm>
        <a:graphic>
          <a:graphicData uri="http://schemas.openxmlformats.org/presentationml/2006/ole">
            <p:oleObj progId="Excel.Sheet.12" r:id="rId1" spid="">
              <p:embed/>
              <p:pic>
                <p:nvPicPr>
                  <p:cNvPr id="58" name="Object 5" descr=""/>
                  <p:cNvPicPr/>
                  <p:nvPr/>
                </p:nvPicPr>
                <p:blipFill>
                  <a:blip r:embed="rId2"/>
                  <a:stretch/>
                </p:blipFill>
                <p:spPr>
                  <a:xfrm>
                    <a:off x="431640" y="1492200"/>
                    <a:ext cx="8915400" cy="538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Oval 3"/>
          <p:cNvSpPr/>
          <p:nvPr/>
        </p:nvSpPr>
        <p:spPr>
          <a:xfrm>
            <a:off x="36320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si-reflec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4"/>
          <p:cNvSpPr/>
          <p:nvPr/>
        </p:nvSpPr>
        <p:spPr>
          <a:xfrm>
            <a:off x="61466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ve</a:t>
            </a:r>
            <a:endParaRPr b="0" lang="en-US" sz="2400" spc="-1" strike="noStrike">
              <a:solidFill>
                <a:srgbClr val="000000"/>
              </a:solidFill>
              <a:latin typeface="Times New Roman"/>
            </a:endParaRPr>
          </a:p>
        </p:txBody>
      </p:sp>
      <p:sp>
        <p:nvSpPr>
          <p:cNvPr id="61" name="Oval 5"/>
          <p:cNvSpPr/>
          <p:nvPr/>
        </p:nvSpPr>
        <p:spPr>
          <a:xfrm>
            <a:off x="11174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reflective</a:t>
            </a:r>
            <a:endParaRPr b="0" lang="en-US" sz="2400" spc="-1" strike="noStrike">
              <a:solidFill>
                <a:srgbClr val="000000"/>
              </a:solidFill>
              <a:latin typeface="Times New Roman"/>
            </a:endParaRPr>
          </a:p>
        </p:txBody>
      </p:sp>
      <p:sp>
        <p:nvSpPr>
          <p:cNvPr id="62" name="Line 6"/>
          <p:cNvSpPr/>
          <p:nvPr/>
        </p:nvSpPr>
        <p:spPr>
          <a:xfrm>
            <a:off x="1422360" y="6400800"/>
            <a:ext cx="76201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Rectangle 8"/>
          <p:cNvSpPr/>
          <p:nvPr/>
        </p:nvSpPr>
        <p:spPr>
          <a:xfrm>
            <a:off x="797040" y="426960"/>
            <a:ext cx="8566200" cy="11797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Developing Reflective Thinking</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mpirical Grounding</a:t>
            </a:r>
            <a:endParaRPr b="0" lang="en-US" sz="4900" spc="-1" strike="noStrike">
              <a:solidFill>
                <a:srgbClr val="000000"/>
              </a:solidFill>
              <a:latin typeface="Times New Roman"/>
            </a:endParaRPr>
          </a:p>
        </p:txBody>
      </p:sp>
      <p:sp>
        <p:nvSpPr>
          <p:cNvPr id="65" name="PlaceHolder 2"/>
          <p:cNvSpPr>
            <a:spLocks noGrp="1"/>
          </p:cNvSpPr>
          <p:nvPr>
            <p:ph type="subTitle"/>
          </p:nvPr>
        </p:nvSpPr>
        <p:spPr>
          <a:xfrm>
            <a:off x="796680" y="1798560"/>
            <a:ext cx="8566200" cy="49370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1,700 individuals </a:t>
            </a:r>
            <a:endParaRPr b="0" lang="en-US" sz="3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people in a 10 year longitudinal study from 1977 – 1987</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high school studen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 college students </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graduate studen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150 non-student adul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Guiding Questions</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491760" y="2179800"/>
            <a:ext cx="6762600" cy="44035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w do students reason about ill-structured problems?</a:t>
            </a:r>
            <a:endParaRPr b="0" lang="en-US" sz="35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es their reasoning change over time?</a:t>
            </a:r>
            <a:endParaRPr b="0" lang="en-US" sz="35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s the improvement in the ability to make reflective judgments associated with participation in higher education?</a:t>
            </a:r>
            <a:endParaRPr b="0" lang="en-US" sz="3500" spc="-1" strike="noStrike">
              <a:solidFill>
                <a:srgbClr val="000000"/>
              </a:solidFill>
              <a:latin typeface="Times New Roman"/>
            </a:endParaRPr>
          </a:p>
        </p:txBody>
      </p:sp>
      <p:pic>
        <p:nvPicPr>
          <p:cNvPr id="68" name="Picture 4" descr=""/>
          <p:cNvPicPr/>
          <p:nvPr/>
        </p:nvPicPr>
        <p:blipFill>
          <a:blip r:embed="rId1"/>
          <a:stretch/>
        </p:blipFill>
        <p:spPr>
          <a:xfrm>
            <a:off x="7203960" y="2514600"/>
            <a:ext cx="229896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9160" y="727200"/>
            <a:ext cx="8745840" cy="1931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PRE-REFLECTIVE THINKING</a:t>
            </a:r>
            <a:br>
              <a:rPr sz="4900"/>
            </a:br>
            <a:r>
              <a:rPr b="1" lang="en-US" sz="4900" spc="-1" strike="noStrike">
                <a:solidFill>
                  <a:srgbClr val="ffffff"/>
                </a:solidFill>
                <a:latin typeface="Arial"/>
              </a:rPr>
              <a:t>(Stages 1-3)</a:t>
            </a:r>
            <a:endParaRPr b="0" lang="en-US" sz="4900" spc="-1" strike="noStrike">
              <a:solidFill>
                <a:srgbClr val="000000"/>
              </a:solidFill>
              <a:latin typeface="Times New Roman"/>
            </a:endParaRPr>
          </a:p>
        </p:txBody>
      </p:sp>
      <p:sp>
        <p:nvSpPr>
          <p:cNvPr id="70" name="PlaceHolder 2"/>
          <p:cNvSpPr>
            <a:spLocks noGrp="1"/>
          </p:cNvSpPr>
          <p:nvPr>
            <p:ph type="subTitle"/>
          </p:nvPr>
        </p:nvSpPr>
        <p:spPr>
          <a:xfrm>
            <a:off x="762120" y="2514240"/>
            <a:ext cx="8610480" cy="4876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esn’t recognize (or perceive) uncertainty of knowledge, or that real problems exist, for which there might not be a correct answer</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esn’t use evidence to reason toward a conclusion; reasons don’t appear logically connected to the issue</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gained through the word of an authority figure or through firsthand observa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3400" y="1996920"/>
            <a:ext cx="8661600" cy="49802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rete, single-category belief system</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nowledge = copied, absolute &amp; predetermined</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nowledge &amp; belief aren’t distinguished</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ntroversies, criticisms, doubt</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n’t know how to respond when faced w/ ill-structured problems</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osed framework</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single representational skill” (Fischer, 1980)</a:t>
            </a:r>
            <a:endParaRPr b="0" lang="en-US" sz="3000" spc="-1" strike="noStrike">
              <a:solidFill>
                <a:srgbClr val="000000"/>
              </a:solidFill>
              <a:latin typeface="Times New Roman"/>
            </a:endParaRPr>
          </a:p>
        </p:txBody>
      </p:sp>
      <p:sp>
        <p:nvSpPr>
          <p:cNvPr id="72"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73"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ichael Montgomery</cp:lastModifiedBy>
  <cp:lastPrinted>2009-03-15T20:50:55Z</cp:lastPrinted>
  <dcterms:modified xsi:type="dcterms:W3CDTF">2009-03-16T19:04:05Z</dcterms:modified>
  <cp:revision>15</cp:revision>
  <dc:subject/>
  <dc:title>PowerPoint Presentation</dc:title>
</cp:coreProperties>
</file>